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CD5-3199-4D80-8240-F52CF54F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270-B4D4-4C11-BE05-16501320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CA2E-AE41-4FD1-8A55-C4EDF617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40C8-9F62-4DEE-91E6-5DF8374B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4453-333C-4E43-BA88-113EE3ED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CC60-DD95-4A8F-8555-F8B615DA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92E7-F4B3-4AC4-9E45-9704EB55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C9E5-63DD-4D8A-81FD-392963B5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8DA3-6A4F-4396-9E08-9F12C80F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6BC5-9B50-43F4-BAE2-36534768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1303-D4DC-47B0-AA70-6F21E2A8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EB7-8C8D-4BCD-AD02-4A4B82BC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8F86-DF65-4CD8-9B07-115D2AA4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17EC-1275-40B1-B544-86E7FDD2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D6B1-0B9B-402C-830E-49EDA3CD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31AF-750E-4171-A108-504B3954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BB80-EB97-4FF3-9CEE-0EC59C56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24EBD-A491-4AC9-A515-FF9C0F11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74FA4-77CC-442D-B3BE-6696F7B3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20719-3679-4E23-84D7-8EE8159A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CEFF12-A689-4737-9C07-2871A7B2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03837-9383-4BC5-BA24-A94D1D94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52A3-9113-4880-BD0D-12221269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255DD-0F49-4828-9045-557BD949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A38C6-5A0C-4A40-BB08-14142A9F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552D2-B6F0-4F27-9C00-0E6036D3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4D6D8-C6E8-4404-9DF8-3BC7888A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773DC-6071-4B85-B5CE-28D30287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FC62E-A61D-44DF-B630-015E2AD6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DBE3CC-5A6D-4635-8114-54132EB5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6A08FC-744D-4075-93C1-112F540A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47AEDB-7F74-437B-AC49-D13518FF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8A11AB-9A72-4AE4-B616-030B3CA1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038-265E-4AE6-A8BB-E64F9FDD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F452FA-310C-4F57-B0E3-5C89A6A2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DE1E7D-DBB1-4CCF-8D77-09717F62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5FA972-AD8B-4F6A-BBC1-B00ADA61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AA4D53-092A-4D18-9877-EC7C0DF6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E9CFE3-9A16-4A48-BB9C-C56A37BE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F4493-F8A5-459F-AD02-78EB45CE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B19E70-09BA-4F7A-92A6-FE89F91E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FC785D-B9A0-4598-A41D-4691620B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BBA400-DFCF-4103-B98F-DCC61F52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8606A6-4219-4615-BE5A-E507F812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0DC9-48C6-4068-A71C-C8A91CDD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EC4CD4-0F47-4A00-ACBB-2195ACA9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B0B1B-0628-47F5-A490-35B7BDD3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F375D7-6CFB-4B26-B555-A1E12263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FA0C9A-40C3-4450-B12A-CBBEC6DE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CDBFD6-8D29-48D7-8A36-4AC3801B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43967C-EBAF-4FE0-ACEE-368357DE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827E8-01B5-47D2-8E4F-B54D8F16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118BB-9DA2-49E3-BB2C-B4006485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C579D-5C35-47E6-9DAF-35AE7972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678D5C-6174-49C0-8675-74700B92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51C-BE35-49B4-BC40-81C16FCC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D0D0B1-D2AF-4EEE-8318-BBAEDB5E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576FC-701E-4513-A261-6C7294AA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F40B0-4587-4320-A497-2089DAD4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E8143-8704-4DAF-A09E-6158E315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9AF66-A02C-4971-BEC6-BAEE7FDC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67A7F-89E3-4268-93FD-AA9022ED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93693-33B6-4419-8DB7-CF23AE84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99794-D486-477A-8848-15CB7777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4795B-31DF-43BF-B442-54C47A92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EB078-A8B9-4685-A082-88A1FFA1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0B2-39BB-43EB-ADA7-0588622C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B775F-956D-408D-B3C6-C993451F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43680-7EDB-47C3-B46D-18E5E597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C8720-7393-49CB-ABD8-0747537A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759F6B-2380-4539-AA36-C5CE36F0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ECB9F0-AD99-4E36-9A83-C819996E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4BDEBA-9079-4F9F-A29C-68289DB1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DC9E66-B6DE-4D4C-BB1A-98166995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06899D-0179-46A8-B392-E9BCB36C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CFC95-A813-4878-B43C-6304CEAC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B404C1-FA89-42F9-B408-DE036909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12B-5373-4AE6-803F-00638A38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4BB88B-922E-4066-8FA6-75423196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30A893-341C-4246-A793-4F1C383E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44D9FD-38C2-48B5-931F-C740D731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488B1E-384F-4DAC-B0C5-DE4EBFE6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06F7A4-395B-4DF5-91D1-5FFA812B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ABEA3-DEF5-4415-BF59-E2C081F1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FE590-A97A-4C1D-953B-0205E333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4EA1D-0392-4862-8928-AEA7B4C0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DF850-E1AA-4501-8DA9-87B2E829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33A83-42E4-4018-9CD3-298E5B6F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F56F-9C25-4E5B-A7CE-7CEBF1CF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647CC-B936-438D-8104-326C4659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EC38E-9283-4F25-A374-1CE2B243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DB752-E344-4E37-B04A-FCAD7935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81798-565B-409C-9867-9CBE2FED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F4AEF-516E-428E-9593-618D9109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BFA84-6A67-431E-91AD-E9DDC5B3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3B3F6-B89B-4931-95FA-0643793E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1F12-E400-4F92-B7CB-0BCDED173F09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FEF4-8930-40E9-861F-7A56F7DAC43A}" type="slidenum">
              <a:rPr b="1" lang="en-CA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29E6-4B15-443A-B93F-0A7FDF14FC3B}" type="slidenum">
              <a:rPr b="1" lang="en-C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73CA-92E1-4A0E-8499-9789BB1E0D5B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30C1-860A-4018-8756-E3E77AACF55E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4AA7-5774-4EC5-9281-0C1BB54F3B0C}" type="slidenum">
              <a:rPr b="1" lang="en-CA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6008-6A9B-4F5E-856B-002949F9C308}" type="slidenum">
              <a:rPr b="1" lang="en-CA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6DF1-A64A-445A-9DF7-5EE573242EA6}" type="slidenum">
              <a:rPr b="1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iles.hamachi.cc/HamachiSetup-1.0.3.0-en.exe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andcraftedsoftware.org/modules/mx_pafiledb/dload.php?action=download&amp;file_id=5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403848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bddc3"/>
                </a:solidFill>
                <a:latin typeface="Tw Cen MT"/>
                <a:cs typeface="Arial"/>
              </a:rPr>
              <a:t>روش عبور از فیلتر با استفاده از شبکه </a:t>
            </a:r>
            <a:r>
              <a:rPr b="0" lang="fr-CA" sz="4400" spc="-1" strike="noStrike">
                <a:solidFill>
                  <a:srgbClr val="ebddc3"/>
                </a:solidFill>
                <a:latin typeface="Tw Cen MT"/>
              </a:rPr>
              <a:t>HAMACHI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ffffff"/>
                </a:solidFill>
                <a:latin typeface="Tw Cen MT"/>
                <a:cs typeface="Arial"/>
              </a:rPr>
              <a:t>نحوه ساخت سرور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775f55"/>
                </a:solidFill>
                <a:latin typeface="Tw Cen MT"/>
                <a:cs typeface="Arial"/>
              </a:rPr>
              <a:t>اجرای برنامه </a:t>
            </a: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Free Prox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منوی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Start / Stop</a:t>
            </a:r>
            <a:r>
              <a:rPr b="0" lang="fr-CA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را انتخاب کنید تا پنجره زیر باز شود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Tw Cen MT"/>
                <a:cs typeface="Arial"/>
              </a:rPr>
              <a:t>سپس دکمه </a:t>
            </a:r>
            <a:r>
              <a:rPr b="0" lang="en-CA" sz="2600" spc="-1" strike="noStrike">
                <a:solidFill>
                  <a:srgbClr val="000000"/>
                </a:solidFill>
                <a:latin typeface="Tw Cen MT"/>
              </a:rPr>
              <a:t>Start</a:t>
            </a:r>
            <a:r>
              <a:rPr b="0" lang="fa-IR" sz="2600" spc="-1" strike="noStrike">
                <a:solidFill>
                  <a:srgbClr val="000000"/>
                </a:solidFill>
                <a:latin typeface="Tw Cen MT"/>
                <a:ea typeface="Arial"/>
              </a:rPr>
              <a:t> را کلیک کنید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1495440" y="2819520"/>
            <a:ext cx="264780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Tw Cen MT"/>
                <a:cs typeface="Arial"/>
              </a:rPr>
              <a:t>برنامه </a:t>
            </a:r>
            <a:r>
              <a:rPr b="0" lang="en-CA" sz="4400" spc="-1" strike="noStrike">
                <a:solidFill>
                  <a:srgbClr val="ffffff"/>
                </a:solidFill>
                <a:latin typeface="Tw Cen MT"/>
              </a:rPr>
              <a:t>Hamach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775f55"/>
                </a:solidFill>
                <a:latin typeface="Tw Cen MT"/>
                <a:cs typeface="Arial"/>
              </a:rPr>
              <a:t>دانلود برنامه </a:t>
            </a: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Hamach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برنامه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Hamachi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را از آدرس زیر دریافت کنید 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files.hamachi.cc/HamachiSetup-1.0.3.0-en.ex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775f55"/>
                </a:solidFill>
                <a:latin typeface="Tw Cen MT"/>
                <a:cs typeface="Arial"/>
              </a:rPr>
              <a:t>نصب برنامه </a:t>
            </a: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Hamach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فایل دریافتی را اجرا کنید تا مراحل نصب آغاز گردد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2286000" y="2500200"/>
            <a:ext cx="49291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775f55"/>
                </a:solidFill>
                <a:latin typeface="Tw Cen MT"/>
                <a:cs typeface="Arial"/>
              </a:rPr>
              <a:t>نصب برنامه </a:t>
            </a: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Hamach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پنجره های نصب برنامه را دنبال کرده تا به پنجره زیر برسید، آنگاه گزینه </a:t>
            </a:r>
            <a:br>
              <a:rPr sz="2900"/>
            </a:b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Disable vulnerable Windows services over Hamachi</a:t>
            </a:r>
            <a:br>
              <a:rPr sz="2900"/>
            </a:b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را انتخاب کنید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2286000" y="3562200"/>
            <a:ext cx="4429080" cy="31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775f55"/>
                </a:solidFill>
                <a:latin typeface="Tw Cen MT"/>
                <a:cs typeface="Arial"/>
              </a:rPr>
              <a:t>نصب برنامه </a:t>
            </a: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Hamach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در پنجره بعدی گزینه زیر را انتخاب کنید 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w Cen MT"/>
              </a:rPr>
              <a:t>Evaluate Hamachi Commercia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2000160" y="2928960"/>
            <a:ext cx="5114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775f55"/>
                </a:solidFill>
                <a:latin typeface="Tw Cen MT"/>
                <a:cs typeface="Arial"/>
              </a:rPr>
              <a:t>نصب برنامه </a:t>
            </a: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Hamach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در پنجره بعد دکمه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Next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را انتخاب کنید و سپس گزینه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Install</a:t>
            </a:r>
            <a:r>
              <a:rPr b="0" lang="fr-CA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پس از پایان نصب به پنجره زیر می رسی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2000160" y="2928960"/>
            <a:ext cx="5143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775f55"/>
                </a:solidFill>
                <a:latin typeface="Tw Cen MT"/>
                <a:cs typeface="Arial"/>
              </a:rPr>
              <a:t>اجرا و تنظیمات برنامه </a:t>
            </a: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Hamach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در انتهای نصب در صورت انتخاب گزینه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Launch Hamachi</a:t>
            </a:r>
            <a:r>
              <a:rPr b="0" lang="fr-CA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برنامه به صورت اتوماتیک آغاز به کار می کند، در غیر این صورت آنرا از منو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Start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انتخاب کرده و اجرا کنید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پس از شروع برنامه گزینه </a:t>
            </a:r>
            <a:r>
              <a:rPr b="0" lang="fr-CA" sz="2900" spc="-1" strike="noStrike">
                <a:solidFill>
                  <a:srgbClr val="000000"/>
                </a:solidFill>
                <a:latin typeface="Tw Cen MT"/>
              </a:rPr>
              <a:t>Configure Hamachi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را انتخاب کنی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3357720" y="3571920"/>
            <a:ext cx="2709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775f55"/>
                </a:solidFill>
                <a:latin typeface="Tw Cen MT"/>
                <a:cs typeface="Arial"/>
              </a:rPr>
              <a:t>اجرا و تنظیمات برنامه </a:t>
            </a: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Hamach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سپس گزینه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Preferences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را انتخاب کنید و در آن قسمت از سمت راست گزینه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Status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و سپس در سمت چپ گزینه </a:t>
            </a:r>
            <a:br>
              <a:rPr sz="2900"/>
            </a:b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Detailed Configuration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را انتخاب کنید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2714760" y="3071880"/>
            <a:ext cx="400032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775f55"/>
                </a:solidFill>
                <a:latin typeface="Tw Cen MT"/>
                <a:cs typeface="Arial"/>
              </a:rPr>
              <a:t>اجرا و تنظیمات برنامه </a:t>
            </a: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Hamach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77200" indent="-27720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در این پنجره گزینه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Manual Configuration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را انتخاب کنی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و در پنجره مقابل آن آدرس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IP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زیر را وارد کنید 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6200" indent="-237240" algn="r" rtl="1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Tw Cen MT"/>
                <a:ea typeface="Arial"/>
              </a:rPr>
              <a:t>192.168.0.1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56200" indent="-237240" algn="r" rtl="1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Tw Cen MT"/>
                <a:cs typeface="Arial"/>
              </a:rPr>
              <a:t>این آدرس متعلق به برنامه </a:t>
            </a:r>
            <a:r>
              <a:rPr b="0" lang="en-CA" sz="2600" spc="-1" strike="noStrike">
                <a:solidFill>
                  <a:srgbClr val="000000"/>
                </a:solidFill>
                <a:latin typeface="Tw Cen MT"/>
              </a:rPr>
              <a:t>FreeProxy</a:t>
            </a:r>
            <a:r>
              <a:rPr b="0" lang="fa-IR" sz="2600" spc="-1" strike="noStrike">
                <a:solidFill>
                  <a:srgbClr val="000000"/>
                </a:solidFill>
                <a:latin typeface="Tw Cen MT"/>
                <a:ea typeface="Arial"/>
              </a:rPr>
              <a:t> می باشد، چنانچه در تنظیمات آن برنامه آن را تغییر داده اید، آدرس صحیح را وارد کنید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در قسمت شماره پورت هم عدد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8080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را وارد کنید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(تصویر در صفحه بعد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سپس با زدن دکمه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OK</a:t>
            </a:r>
            <a:r>
              <a:rPr b="0" lang="fr-CA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پنجره را بسته و تنظیمات را ذخیره کنی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775f55"/>
                </a:solidFill>
                <a:latin typeface="Tw Cen MT"/>
                <a:cs typeface="Arial"/>
              </a:rPr>
              <a:t>توضیحات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برای ایجاد سرور به دو نرم افزار احتیاج می باشد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w Cen MT"/>
              </a:rPr>
              <a:t>Free Prox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w Cen MT"/>
              </a:rPr>
              <a:t>Hamach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نحوه دریافت و نصب هر کدام به صورت جداگانه توضیح داده شده است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ff0000"/>
                </a:solidFill>
                <a:latin typeface="Tw Cen MT"/>
                <a:cs typeface="Arial"/>
              </a:rPr>
              <a:t>اطلاعات سرور خود را فقط </a:t>
            </a:r>
            <a:r>
              <a:rPr b="1" lang="en-CA" sz="29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fa-IR" sz="2900" spc="-1" strike="noStrike">
                <a:solidFill>
                  <a:srgbClr val="ff0000"/>
                </a:solidFill>
                <a:latin typeface="Tw Cen MT"/>
                <a:cs typeface="Arial"/>
              </a:rPr>
              <a:t>با دوستان مورد اعتماد به اشتراک بگذارید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775f55"/>
                </a:solidFill>
                <a:latin typeface="Tw Cen MT"/>
                <a:cs typeface="Arial"/>
              </a:rPr>
              <a:t>اجرا و تنظیمات برنامه </a:t>
            </a: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Hamach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3143160" y="1857240"/>
            <a:ext cx="36385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775f55"/>
                </a:solidFill>
                <a:latin typeface="Tw Cen MT"/>
                <a:cs typeface="Arial"/>
              </a:rPr>
              <a:t>اجرا و تنظیمات برنامه </a:t>
            </a: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Hamach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دکمه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Power</a:t>
            </a:r>
            <a:r>
              <a:rPr b="0" lang="fr-CA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مربوط به برنامه را کلیک کنید 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سپس دکمه مربوط به ایجاد شبکه را کلیک کرده و گزینه </a:t>
            </a:r>
            <a:br>
              <a:rPr sz="2900"/>
            </a:b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Create a New Network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را انتخاب کنی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3071880" y="2428920"/>
            <a:ext cx="3029040" cy="11239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2"/>
          <a:stretch/>
        </p:blipFill>
        <p:spPr>
          <a:xfrm>
            <a:off x="3429000" y="5000760"/>
            <a:ext cx="267660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775f55"/>
                </a:solidFill>
                <a:latin typeface="Tw Cen MT"/>
                <a:cs typeface="Arial"/>
              </a:rPr>
              <a:t>اجرا و تنظیمات برنامه </a:t>
            </a: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Hamach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شبکه ای با نام و رمز عبور دلخواه خود ایجاد کنی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1"/>
          <a:stretch/>
        </p:blipFill>
        <p:spPr>
          <a:xfrm>
            <a:off x="2571840" y="2500200"/>
            <a:ext cx="40669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Tw Cen MT"/>
                <a:cs typeface="Arial"/>
              </a:rPr>
              <a:t>تنظیمات </a:t>
            </a:r>
            <a:r>
              <a:rPr b="0" lang="en-CA" sz="4400" spc="-1" strike="noStrike">
                <a:solidFill>
                  <a:srgbClr val="ffffff"/>
                </a:solidFill>
                <a:latin typeface="Tw Cen MT"/>
              </a:rPr>
              <a:t>FireWal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775f55"/>
                </a:solidFill>
                <a:latin typeface="Tw Cen MT"/>
                <a:cs typeface="Arial"/>
              </a:rPr>
              <a:t>اضافه کردن </a:t>
            </a: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port</a:t>
            </a:r>
            <a:r>
              <a:rPr b="0" lang="fa-IR" sz="4400" spc="-1" strike="noStrike">
                <a:solidFill>
                  <a:srgbClr val="775f55"/>
                </a:solidFill>
                <a:latin typeface="Tw Cen MT"/>
                <a:ea typeface="Arial"/>
              </a:rPr>
              <a:t> به </a:t>
            </a: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FireWal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96280" indent="-29628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اگر از برنامه جداگانه ای به منظور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FireWall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استفاده می کنید به راهنمای برنامه رجوع کرده و نحوه اضافه کردن یک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port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به لیست استثناء های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Exceptions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)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آنرا دنبال کنید و پورت شماره 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8080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را به آن اضافه کنید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اگر از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FireWall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ویندوز استفاده می کنید به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Control Panel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رفته و سپس گزینه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Windows FireWall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را انتخاب کنید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سپس بر روی عبارت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Change Settings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کلیک کنید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سپس گزینه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Exceptions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را انتخاب کنی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775f55"/>
                </a:solidFill>
                <a:latin typeface="Tw Cen MT"/>
                <a:cs typeface="Arial"/>
              </a:rPr>
              <a:t>اضافه کردن </a:t>
            </a: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port</a:t>
            </a:r>
            <a:r>
              <a:rPr b="0" lang="fa-IR" sz="4400" spc="-1" strike="noStrike">
                <a:solidFill>
                  <a:srgbClr val="775f55"/>
                </a:solidFill>
                <a:latin typeface="Tw Cen MT"/>
                <a:ea typeface="Arial"/>
              </a:rPr>
              <a:t> به </a:t>
            </a: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FireWal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1"/>
          <a:stretch/>
        </p:blipFill>
        <p:spPr>
          <a:xfrm>
            <a:off x="2571840" y="1628640"/>
            <a:ext cx="42195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775f55"/>
                </a:solidFill>
                <a:latin typeface="Tw Cen MT"/>
                <a:cs typeface="Arial"/>
              </a:rPr>
              <a:t>اضافه کردن </a:t>
            </a: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port</a:t>
            </a:r>
            <a:r>
              <a:rPr b="0" lang="fa-IR" sz="4400" spc="-1" strike="noStrike">
                <a:solidFill>
                  <a:srgbClr val="775f55"/>
                </a:solidFill>
                <a:latin typeface="Tw Cen MT"/>
                <a:ea typeface="Arial"/>
              </a:rPr>
              <a:t> به </a:t>
            </a: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FireWal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در انتهای پنجره باز شده گزینه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Add Port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را انتخاب کنی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سپس برای آن یک نام انتخاب کرده و در قسمت شماره عدد 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8080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را وارد کنید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619360" y="2286000"/>
            <a:ext cx="3905280" cy="3906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2714760" y="3643200"/>
            <a:ext cx="38289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Tw Cen MT"/>
                <a:cs typeface="Arial"/>
              </a:rPr>
              <a:t>خاتمه کار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775f55"/>
                </a:solidFill>
                <a:latin typeface="Tw Cen MT"/>
                <a:cs typeface="Arial"/>
              </a:rPr>
              <a:t>خاتمه کار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Tw Cen MT"/>
                <a:cs typeface="Arial"/>
              </a:rPr>
              <a:t>خسته نباشید، سرور شما آماده است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Tw Cen MT"/>
                <a:cs typeface="Arial"/>
              </a:rPr>
              <a:t>برای استفاده دوستانتان از سرور شما کافیست اطلاعات زیر را برای آنها ارسال کنید :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 algn="r" rtl="1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w Cen MT"/>
                <a:cs typeface="Arial"/>
              </a:rPr>
              <a:t>آدرس سرور </a:t>
            </a:r>
            <a:r>
              <a:rPr b="0" lang="en-CA" sz="2400" spc="-1" strike="noStrike">
                <a:solidFill>
                  <a:srgbClr val="000000"/>
                </a:solidFill>
                <a:latin typeface="Tw Cen MT"/>
              </a:rPr>
              <a:t>Hamachi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، شماره </a:t>
            </a:r>
            <a:r>
              <a:rPr b="0" lang="en-CA" sz="2400" spc="-1" strike="noStrike">
                <a:solidFill>
                  <a:srgbClr val="000000"/>
                </a:solidFill>
                <a:latin typeface="Tw Cen MT"/>
              </a:rPr>
              <a:t>IP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ی که بعد از باز شدن نرم افزار </a:t>
            </a:r>
            <a:r>
              <a:rPr b="0" lang="en-CA" sz="2400" spc="-1" strike="noStrike">
                <a:solidFill>
                  <a:srgbClr val="000000"/>
                </a:solidFill>
                <a:latin typeface="Tw Cen MT"/>
              </a:rPr>
              <a:t>Hamachi</a:t>
            </a:r>
            <a:r>
              <a:rPr b="0" lang="fr-CA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در بالای آن به نمایش در می آید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 algn="r" rtl="1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w Cen MT"/>
                <a:cs typeface="Arial"/>
              </a:rPr>
              <a:t>نام و رمز عبور شبکه ای که در هنگام ایجاد یک شبکه در </a:t>
            </a:r>
            <a:r>
              <a:rPr b="0" lang="en-CA" sz="2400" spc="-1" strike="noStrike">
                <a:solidFill>
                  <a:srgbClr val="000000"/>
                </a:solidFill>
                <a:latin typeface="Tw Cen MT"/>
              </a:rPr>
              <a:t>Hamachi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آنها را وارد کردید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 algn="r" rtl="1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w Cen MT"/>
                <a:cs typeface="Arial"/>
              </a:rPr>
              <a:t>دستورالعمل مربوط به ایجاد </a:t>
            </a:r>
            <a:r>
              <a:rPr b="0" lang="en-CA" sz="2400" spc="-1" strike="noStrike">
                <a:solidFill>
                  <a:srgbClr val="000000"/>
                </a:solidFill>
                <a:latin typeface="Tw Cen MT"/>
              </a:rPr>
              <a:t>Client</a:t>
            </a: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برای نرم افزار </a:t>
            </a:r>
            <a:r>
              <a:rPr b="0" lang="en-CA" sz="2400" spc="-1" strike="noStrike">
                <a:solidFill>
                  <a:srgbClr val="000000"/>
                </a:solidFill>
                <a:latin typeface="Tw Cen MT"/>
              </a:rPr>
              <a:t>Hamach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 algn="r" rtl="1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ff0000"/>
                </a:solidFill>
                <a:latin typeface="Tw Cen MT"/>
                <a:cs typeface="Arial"/>
              </a:rPr>
              <a:t>اطلاعات سرور خود را فقط با دوستان مورد اعتماد به اشتراک بگذارید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360" y="403848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bddc3"/>
                </a:solidFill>
                <a:latin typeface="Tw Cen MT"/>
                <a:cs typeface="Arial"/>
              </a:rPr>
              <a:t>پاینده و موفق باشید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Tw Cen MT"/>
                <a:cs typeface="Arial"/>
              </a:rPr>
              <a:t>برنامه </a:t>
            </a:r>
            <a:r>
              <a:rPr b="0" lang="en-CA" sz="4400" spc="-1" strike="noStrike">
                <a:solidFill>
                  <a:srgbClr val="ffffff"/>
                </a:solidFill>
                <a:latin typeface="Tw Cen MT"/>
              </a:rPr>
              <a:t>Free Prox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775f55"/>
                </a:solidFill>
                <a:latin typeface="Tw Cen MT"/>
                <a:cs typeface="Arial"/>
              </a:rPr>
              <a:t>دانلود </a:t>
            </a: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Free Prox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برنامه را از آدرس زیر دریافت کنید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CA" sz="1400" spc="-1" strike="noStrike" u="sng">
                <a:solidFill>
                  <a:srgbClr val="f7b615"/>
                </a:solidFill>
                <a:uFillTx/>
                <a:latin typeface="Tw Cen MT"/>
                <a:ea typeface="Arial"/>
                <a:hlinkClick r:id="rId1"/>
              </a:rPr>
              <a:t>http://www.handcraftedsoftware.org/modules/mx_pafiledb/dload.php?action=download&amp;file_id=5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فایل دریافتی به صورت </a:t>
            </a:r>
            <a:r>
              <a:rPr b="0" lang="en-CA" sz="2800" spc="-1" strike="noStrike">
                <a:solidFill>
                  <a:srgbClr val="000000"/>
                </a:solidFill>
                <a:latin typeface="Tw Cen MT"/>
              </a:rPr>
              <a:t>zip</a:t>
            </a:r>
            <a:r>
              <a:rPr b="0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می باشد، آنرا </a:t>
            </a:r>
            <a:r>
              <a:rPr b="0" lang="en-CA" sz="2800" spc="-1" strike="noStrike">
                <a:solidFill>
                  <a:srgbClr val="000000"/>
                </a:solidFill>
                <a:latin typeface="Tw Cen MT"/>
              </a:rPr>
              <a:t>unzip</a:t>
            </a:r>
            <a:r>
              <a:rPr b="0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کنی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فایل استخراج شده به نام </a:t>
            </a:r>
            <a:r>
              <a:rPr b="0" lang="en-CA" sz="2800" spc="-1" strike="noStrike">
                <a:solidFill>
                  <a:srgbClr val="000000"/>
                </a:solidFill>
                <a:latin typeface="Tw Cen MT"/>
              </a:rPr>
              <a:t>setup.exe</a:t>
            </a:r>
            <a:r>
              <a:rPr b="0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می باش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775f55"/>
                </a:solidFill>
                <a:latin typeface="Tw Cen MT"/>
                <a:cs typeface="Arial"/>
              </a:rPr>
              <a:t>ویندوز ویستا و </a:t>
            </a: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Free Prox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اگر از ویندوز ویستا استفاده می کنید فایل  را به عنوان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w Cen MT"/>
              </a:rPr>
              <a:t>Administrator</a:t>
            </a:r>
            <a:r>
              <a:rPr b="0" lang="fr-CA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اجرا کنید، در غیر این صورت به قسمت نصب برنامه مراجعه کنی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برای این کار روی </a:t>
            </a:r>
            <a:r>
              <a:rPr b="0" lang="en-CA" sz="2800" spc="-1" strike="noStrike">
                <a:solidFill>
                  <a:srgbClr val="000000"/>
                </a:solidFill>
                <a:latin typeface="Tw Cen MT"/>
              </a:rPr>
              <a:t>setup.exe</a:t>
            </a:r>
            <a:r>
              <a:rPr b="0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رایت-کلیک کرده و گزینه</a:t>
            </a:r>
            <a:br>
              <a:rPr sz="2800"/>
            </a:br>
            <a:r>
              <a:rPr b="0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w Cen MT"/>
              </a:rPr>
              <a:t>Run As Administrator</a:t>
            </a:r>
            <a:r>
              <a:rPr b="0" lang="en-CA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را انتحاب نمائی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2928960" y="3929040"/>
            <a:ext cx="32288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775f55"/>
                </a:solidFill>
                <a:latin typeface="Tw Cen MT"/>
                <a:cs typeface="Arial"/>
              </a:rPr>
              <a:t>ویندوز ویستا و </a:t>
            </a: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Free Prox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w Cen MT"/>
                <a:cs typeface="Arial"/>
              </a:rPr>
              <a:t>در پنجره باز شده، دکمه </a:t>
            </a:r>
            <a:r>
              <a:rPr b="0" lang="en-CA" sz="3200" spc="-1" strike="noStrike">
                <a:solidFill>
                  <a:srgbClr val="000000"/>
                </a:solidFill>
                <a:latin typeface="Tw Cen MT"/>
              </a:rPr>
              <a:t>Next</a:t>
            </a:r>
            <a:r>
              <a:rPr b="0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را کلیک کنید: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2357280" y="2357280"/>
            <a:ext cx="479124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775f55"/>
                </a:solidFill>
                <a:latin typeface="Tw Cen MT"/>
                <a:cs typeface="Arial"/>
              </a:rPr>
              <a:t>نصب </a:t>
            </a: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Free Prox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برنای نصب برنامه صرفاً در هر پنجره دکمه 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N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ext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را فشار دهید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Tw Cen MT"/>
                <a:cs typeface="Arial"/>
              </a:rPr>
              <a:t>در صورت نیاز می توانید مسیر نصب برنامه را به دلخواه عوض کنید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پس از نصب برنامه پنجره زیر را رویت خواهید کرد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2928960" y="4071960"/>
            <a:ext cx="35719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775f55"/>
                </a:solidFill>
                <a:latin typeface="Tw Cen MT"/>
                <a:cs typeface="Arial"/>
              </a:rPr>
              <a:t>اجرای برنامه </a:t>
            </a: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Free Prox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اگر از ویندوز ویستا استفاده می کنید</a:t>
            </a:r>
            <a:r>
              <a:rPr b="0" lang="fr-CA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به آدرس نصب برنامه رفته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 algn="r" rtl="1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Tw Cen MT"/>
                <a:cs typeface="Arial"/>
              </a:rPr>
              <a:t>آدرس معمول نصب برنامه مطابق زیر است : </a:t>
            </a:r>
            <a:br>
              <a:rPr sz="2600"/>
            </a:br>
            <a:r>
              <a:rPr b="0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:\Program Files\Hand-Crafted Software\FreeProx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 algn="r" rtl="1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Tw Cen MT"/>
                <a:cs typeface="Arial"/>
              </a:rPr>
              <a:t>روی فایل 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xyClient.exe</a:t>
            </a:r>
            <a:r>
              <a:rPr b="0" lang="fa-IR" sz="2600" spc="-1" strike="noStrike">
                <a:solidFill>
                  <a:srgbClr val="000000"/>
                </a:solidFill>
                <a:latin typeface="Tw Cen MT"/>
                <a:ea typeface="Arial"/>
              </a:rPr>
              <a:t> رایت-کلیک کرده و گزینه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Tw Cen MT"/>
              </a:rPr>
              <a:t>Run As Administrator</a:t>
            </a:r>
            <a:r>
              <a:rPr b="0" lang="fr-CA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a-IR" sz="2600" spc="-1" strike="noStrike">
                <a:solidFill>
                  <a:srgbClr val="000000"/>
                </a:solidFill>
                <a:latin typeface="Tw Cen MT"/>
                <a:ea typeface="Arial"/>
              </a:rPr>
              <a:t> را انتخاب کنید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Tw Cen MT"/>
                <a:cs typeface="Arial"/>
              </a:rPr>
              <a:t>در صورت اینکه از ویندوز ویستا استفاده نمی کنید، کافیست برنامه را اجرا کنید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 algn="r" rtl="1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Tw Cen MT"/>
                <a:cs typeface="Arial"/>
              </a:rPr>
              <a:t>برنامه غالباً در مسیر زیر نصب می شود :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 algn="r" rtl="1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:\Program Files\Hand-Crafted Software\FreeProxy\FreeProxyClient.exe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 algn="r" rtl="1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775f55"/>
                </a:solidFill>
                <a:latin typeface="Tw Cen MT"/>
                <a:cs typeface="Arial"/>
              </a:rPr>
              <a:t>اجرای برنامه </a:t>
            </a: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Free Prox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643040" y="1928880"/>
            <a:ext cx="61246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1:19:54Z</dcterms:created>
  <dc:creator>Unkown</dc:creator>
  <dc:description/>
  <dc:language>en-US</dc:language>
  <cp:lastModifiedBy>Administrator</cp:lastModifiedBy>
  <dcterms:modified xsi:type="dcterms:W3CDTF">2009-09-05T16:59:08Z</dcterms:modified>
  <cp:revision>48</cp:revision>
  <dc:subject/>
  <dc:title>روش عبور از فیلتر با استفاده از شبکه همه چی</dc:title>
</cp:coreProperties>
</file>